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73D87C-D156-4C18-BCF1-F5BB8F49E7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EF29D-66CF-4B60-B122-347547F3E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9B6F6F-4389-40C1-BA23-945EF8A8A2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B73261-5A1D-4983-AD50-34E0046015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179EB-1D19-4260-AD7D-46E60EDEA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D39DEB-D16F-45DD-8FA3-A1069108250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05C8AE2-2887-45B8-86E4-3551903012B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37100C3-3F45-4742-B9FA-19328CE616A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BFE3DDC-08B4-4C07-B43A-B638015D9BF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0A1A63D3-DD7D-4E63-877D-49A7FABA9D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B48B9-A070-49C1-8FAB-D39D0080B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9AF4DDE-05E0-4B33-99C0-1D103D8773D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EB6CB53-712A-4A2B-B88A-131FABAD0A8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1AACBF5-AD20-4E24-A05B-77EA13ADC89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43A0A5F-B60C-4543-99BD-F7A57ACC6BD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871E931-1555-4AB4-BEE9-2FB8C5F46AD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E8ACB5BA-655A-4AB2-A10F-78F699A4295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441542A-0F7F-4B0C-A8FD-CE0733CFCD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3D806-50C1-46B9-8722-4DF5C9EC0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D0CB6-0049-4853-97B1-40B7E04B8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FBE9C-FB55-4325-B2C4-80554FC62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D3A95-5F50-4EC9-8DD1-1A8719B11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7855B-C7A1-4F58-A49A-DE2FA4D29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A1433-626C-4108-9BC8-48018A911E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72C2F-186D-4CF6-8D77-85A573312951}"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89389-388C-4F10-994F-B5FE0BF746E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3EDE2-FC2B-4A06-909F-FA2CB283F25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CA5DC-55CF-4D2D-9312-67D4F3CA722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8AD3D-F4CB-4E94-B342-FE327CE4E7D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56D8E-8018-4195-8D74-4A75780766A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C1A19-757B-4FFC-A544-C4E763199B6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DB3FC-0006-42F2-BA9F-EA9D9209278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57C6A-0B7F-472D-99F0-E322EE7AA0A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422EE-CAB8-4B9E-BB5F-55A0A87FBA1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CFCD4-76B4-43EA-B416-B773629B7D0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Linux, DO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21B20-BDE7-440D-9398-D9F44DE62E5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DAAA3-3974-4484-97FE-45F92193768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59948-9866-4F98-B12B-D07E9B9A56B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1A41C-48F6-47CE-A7E1-685D771E4B2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81310-809D-4D9F-BD65-4CBBA1398E0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EB856-A57B-4AEB-B85C-5AEE69BEE51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D691E-B545-4CD8-80E8-E3649A6822F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639AB-E342-479E-9135-B9225056486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1AB2D-9D41-465A-BEF8-892A507203B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77B2B-3B9F-4D59-86EC-6ABCC6C7AA4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9F9DD-DF66-44A4-A59F-4A26175B3B8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2DE59-4C17-4863-825B-7F75E437517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6CC59-AFDC-46AF-906A-D55CF95D3AA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2BD2B-C8F9-4B6E-8583-A721C2C11DF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80301-F65C-4EBB-99C9-E1FDC7313BC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67"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68"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7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2" descr=""/>
          <p:cNvPicPr/>
          <p:nvPr/>
        </p:nvPicPr>
        <p:blipFill>
          <a:blip r:embed="rId1"/>
          <a:stretch/>
        </p:blipFill>
        <p:spPr>
          <a:xfrm>
            <a:off x="2805120" y="2357280"/>
            <a:ext cx="3533760" cy="667080"/>
          </a:xfrm>
          <a:prstGeom prst="rect">
            <a:avLst/>
          </a:prstGeom>
          <a:ln w="0">
            <a:noFill/>
          </a:ln>
        </p:spPr>
      </p:pic>
      <p:sp>
        <p:nvSpPr>
          <p:cNvPr id="272"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s &amp; is Operator</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s</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4A751-20E0-4ED1-9DA5-5727798340A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77"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s 1 &lt; 2 then 'valid' else 'invalid' s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D93E5-9B71-4B95-9E9F-75D70F5FAC7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9DD98-85B6-4DC7-A6E0-1192670BE2B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7"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8" name="Picture 2" descr=""/>
          <p:cNvPicPr/>
          <p:nvPr/>
        </p:nvPicPr>
        <p:blipFill>
          <a:blip r:embed="rId1"/>
          <a:stretch/>
        </p:blipFill>
        <p:spPr>
          <a:xfrm>
            <a:off x="2805120" y="2357280"/>
            <a:ext cx="3533760" cy="667080"/>
          </a:xfrm>
          <a:prstGeom prst="rect">
            <a:avLst/>
          </a:prstGeom>
          <a:ln w="0">
            <a:noFill/>
          </a:ln>
        </p:spPr>
      </p:pic>
      <p:sp>
        <p:nvSpPr>
          <p:cNvPr id="289"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2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7DA9B-34B0-4C3C-B23B-CDA65498289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96F9A-2B9B-4963-B1D8-371234F2EED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F57D2-61FF-4B35-8743-1DEFE108EEB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4C931-C7AA-448F-B87F-7AF17D7E8A1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03"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0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559F2-E82F-4A0E-952D-A34A0D1DD37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D5080-8D6C-47EE-AEB5-75DB4B167D3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DE382-8E9E-41CF-9C04-D951F737E90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97AD3-A37B-4832-9A8F-1BC90BA3664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2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2FC11-FE70-482D-88AD-36DE847DEA6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2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6FDBC-2C62-42E2-9777-92A6704B97A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43D7C-2945-4258-833F-47308C37B7A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C8FB2-864F-4C71-AF03-18BE2033634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976CB-ADD8-46E6-8F73-7EC8BDA2303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6504F-1FE3-43BC-AE31-D19291A3E03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39"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Picture 2" descr=""/>
          <p:cNvPicPr/>
          <p:nvPr/>
        </p:nvPicPr>
        <p:blipFill>
          <a:blip r:embed="rId1"/>
          <a:stretch/>
        </p:blipFill>
        <p:spPr>
          <a:xfrm>
            <a:off x="2805120" y="2357280"/>
            <a:ext cx="3533760" cy="667080"/>
          </a:xfrm>
          <a:prstGeom prst="rect">
            <a:avLst/>
          </a:prstGeom>
          <a:ln w="0">
            <a:noFill/>
          </a:ln>
        </p:spPr>
      </p:pic>
      <p:sp>
        <p:nvSpPr>
          <p:cNvPr id="341"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96A68-47DE-43E1-98F6-43475279E44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46"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DCFCF-824A-4870-A465-34DBA2C3DB8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DE219-41FA-43B1-951B-79658B6F485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8F8D2-C848-4205-909C-93A0F61F791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41E67-D0DF-45C1-ABE3-D281B047D9D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7F158-57FA-41CE-AA63-DFC8C8B2357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E8B37-13B8-4873-BFCB-B463176717B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7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ED2C8-710F-46C5-B8FB-5C6A58B412B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75"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9F87D-11AA-4343-9B4C-79BDDC44EF7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Rechteck 5"/>
          <p:cNvSpPr/>
          <p:nvPr/>
        </p:nvSpPr>
        <p:spPr>
          <a:xfrm>
            <a:off x="900000" y="207324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92968-E548-4C92-ABDC-236209FD9E1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3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3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089F2-06C0-4C12-8A0C-401BF83A55C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3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201E3-9233-4C7F-93CF-8F2347CA24D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3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3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70DA4-9F9D-4DDD-AF77-C6292B4A5F4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9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Picture 2" descr=""/>
          <p:cNvPicPr/>
          <p:nvPr/>
        </p:nvPicPr>
        <p:blipFill>
          <a:blip r:embed="rId1"/>
          <a:stretch/>
        </p:blipFill>
        <p:spPr>
          <a:xfrm>
            <a:off x="2805120" y="2357280"/>
            <a:ext cx="3533760" cy="667080"/>
          </a:xfrm>
          <a:prstGeom prst="rect">
            <a:avLst/>
          </a:prstGeom>
          <a:ln w="0">
            <a:noFill/>
          </a:ln>
        </p:spPr>
      </p:pic>
      <p:sp>
        <p:nvSpPr>
          <p:cNvPr id="39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3F7A3-7681-4848-B0C1-4E0BE1050B4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0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99E7A-30D8-4E40-A0DF-C6ACDA7AF2C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0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Picture 2" descr=""/>
          <p:cNvPicPr/>
          <p:nvPr/>
        </p:nvPicPr>
        <p:blipFill>
          <a:blip r:embed="rId1"/>
          <a:stretch/>
        </p:blipFill>
        <p:spPr>
          <a:xfrm>
            <a:off x="2805120" y="2357280"/>
            <a:ext cx="3533760" cy="667080"/>
          </a:xfrm>
          <a:prstGeom prst="rect">
            <a:avLst/>
          </a:prstGeom>
          <a:ln w="0">
            <a:noFill/>
          </a:ln>
        </p:spPr>
      </p:pic>
      <p:sp>
        <p:nvSpPr>
          <p:cNvPr id="40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339FE-30EE-43E3-8883-0FEB25F98A7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0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amp;&am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with</a:t>
            </a:r>
            <a:r>
              <a:rPr b="0" lang="en-GB" sz="2000" spc="-1" strike="noStrike">
                <a:solidFill>
                  <a:srgbClr val="000000"/>
                </a:solidFill>
                <a:latin typeface="Arial"/>
                <a:ea typeface="Arial"/>
              </a:rPr>
              <a:t> or </a:t>
            </a:r>
            <a:r>
              <a:rPr b="0" lang="en-GB" sz="1800" spc="-1" strike="noStrike">
                <a:solidFill>
                  <a:srgbClr val="000000"/>
                </a:solidFill>
                <a:latin typeface="Courier New"/>
                <a:ea typeface="Courier New"/>
              </a:rPr>
              <a:t>readlib</a:t>
            </a:r>
            <a:r>
              <a:rPr b="0" lang="en-GB" sz="2000" spc="-1" strike="noStrike">
                <a:solidFill>
                  <a:srgbClr val="000000"/>
                </a:solidFill>
                <a:latin typeface="Arial"/>
                <a:ea typeface="Arial"/>
              </a:rPr>
              <a:t> functions, e.g. </a:t>
            </a:r>
            <a:r>
              <a:rPr b="0" lang="en-GB" sz="1800" spc="-1" strike="noStrike">
                <a:solidFill>
                  <a:srgbClr val="000000"/>
                </a:solidFill>
                <a:latin typeface="Courier New"/>
                <a:ea typeface="Courier New"/>
              </a:rPr>
              <a:t>with 'calc'</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46568-B2A8-4BF8-9386-4DE4E97E95F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8CE48-0C49-472A-8C1A-4CEE5B8BD2D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7A5A2-D439-494E-9372-842B71F771D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0" name=""/>
          <p:cNvGraphicFramePr/>
          <p:nvPr/>
        </p:nvGraphicFramePr>
        <p:xfrm>
          <a:off x="900000" y="1727280"/>
          <a:ext cx="7858080" cy="25606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ABD97-A38C-4DE4-A852-3472E428E4F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03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9BE59-2B02-4326-8639-7B43653D2C6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28" name="Picture 2" descr="Manual"/>
          <p:cNvPicPr/>
          <p:nvPr/>
        </p:nvPicPr>
        <p:blipFill>
          <a:blip r:embed="rId1"/>
          <a:stretch/>
        </p:blipFill>
        <p:spPr>
          <a:xfrm>
            <a:off x="6143760" y="1643040"/>
            <a:ext cx="2857320" cy="2143080"/>
          </a:xfrm>
          <a:prstGeom prst="rect">
            <a:avLst/>
          </a:prstGeom>
          <a:ln w="0">
            <a:noFill/>
          </a:ln>
        </p:spPr>
      </p:pic>
      <p:pic>
        <p:nvPicPr>
          <p:cNvPr id="42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Windows, and Mac OS X, the respective installer automatically installs and sets up Agena. 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version is included in the manual.</a:t>
            </a:r>
            <a:endParaRPr b="0" lang="en-US" sz="20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gena has been compiled successfully in OS/2 and Haiku in the past.</a:t>
            </a:r>
            <a:endParaRPr b="0" lang="en-US" sz="1800" spc="-1" strike="noStrike">
              <a:solidFill>
                <a:srgbClr val="000000"/>
              </a:solidFill>
              <a:latin typeface="Calibri"/>
            </a:endParaRPr>
          </a:p>
          <a:p>
            <a:pPr marL="343080" indent="-343080">
              <a:lnSpc>
                <a:spcPct val="100000"/>
              </a:lnSpc>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C5CBA-C529-4D22-A497-61E1862F141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0A32B-0A68-4DA7-A175-99592A9F91E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412272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3-12-29T21:45:21Z</dcterms:modified>
  <cp:revision>444</cp:revision>
  <dc:subject/>
  <dc:title>Agena Language Summary</dc:title>
</cp:coreProperties>
</file>